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image3.gif" ContentType="image/gif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3B2-DB5C-4559-ACEC-9DDCDF40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4B3-62C7-477C-ACA7-E9EC9FC6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7100C-5491-4EBA-9468-0ED59457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5A655-8B6D-4A1E-8667-75D1CC43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C2888-6EA2-4B63-97DC-7F1787D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A010A-EF0D-4E00-92C5-7B7AE77C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7ABE8-E37B-4783-9780-201DF320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7E73A-6F80-48FE-9F26-A7B25481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AD65E-E59D-4AC1-899B-AC38779E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512B6-6564-417D-B88D-27D2F4AB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5A7CA-ED07-4599-874D-B88CCA56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477D9-7365-4027-B84C-25DEEEFA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DF8-9C0E-422F-B487-18B2F488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49C7F-9EEB-43AB-8F42-5D98CB5B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06DC2-4205-4766-AA01-6CC87173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29C6C-4E3C-4CEA-9E43-444337E2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769F2-6782-419E-B820-E60166A6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B32FE-BFD6-4D42-99C6-D06DF2D4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50E84-5D10-4CB6-89B2-6235F36B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D4B34-7D15-45B9-B38B-C98953AA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223A8-6E7E-4294-8BE1-1E43606A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45B5F-98BA-4DD2-A0A9-C6FD1F25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C6119-2A79-4617-BF92-2A05D70A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415-F800-43DE-B82D-2BE1964E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B4D44-4953-4A17-A110-B994E336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23534-B3AC-40AA-87F2-B997D35A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B1178-824B-42F6-A866-7B71C124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B7AA7-32BB-4CC8-8D30-C8CA7685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FF2B5-1F4C-4244-A273-4839AE25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E7740-F345-4B1E-9A84-4394904E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69996-C9FF-4E5B-8651-5882DB3B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8F706-35E5-4C0F-B6A2-C7443F29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63336-D94F-4FF8-9999-31BEF557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B5668-5822-4055-A415-5AAF1609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A460-254D-4047-80CC-28D31CEB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114E2-63B0-4232-BC19-15F5D763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C9EA4-5B20-4F2E-B0CE-DD1388DD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99D9F-E458-4F2D-B3EE-F77DA4AF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88630-C634-442B-888E-97D0C631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9E05A-1A1B-4F9B-91BB-7F2C7DFA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40196-5607-4E38-B3B3-EDED4A1A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E7255-7CB2-47D5-A69E-000B8CB2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767F0-1B66-4486-9D0B-899F8BE4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4DE01-56EB-4AB3-BBEF-F8E533B2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0D520-C89C-49AF-B65C-79E3384F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8A6B-0CE8-4CD0-8DCD-F8FA7686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2796A-186E-47C1-A9B1-0BEB3D42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98A2E-F7E6-4832-9BC3-7F87EF89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4BBFF-5E8F-4BFD-9A3C-CA2C31B0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6EA5F-4F20-440D-8193-9938A59E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3FDB9-2821-47DF-B7D9-AAEF8623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FEFB-4560-4C10-AC8F-51D51E13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17DC-4E92-4FED-ABD8-C2AEC339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34E8-EE2F-4BDF-AD85-5382B7F5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82F9-A730-42F9-9AFB-128465FA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910A-C48B-4C49-9A79-2B5350F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7D4-E976-4C37-AB11-0D9B8820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0363-D66C-41A0-96A1-D6BF4544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143C-38F0-4549-87F6-A49C124C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47D9-1EE1-491A-9C86-3A1F0056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4F00-B425-422D-844D-EA9DFF38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01C0-0828-49E1-A0AF-318122E8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2BFD-2CDD-4565-9036-DB2D180C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E8C24-0DB4-4D28-B383-7BC8A413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A317-CA12-4BB2-BE81-86689B35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CF50-EFBB-4EED-8658-8BC6F868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FE98-0BF3-441A-BBEB-3C9BF23E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49A-1834-4A37-B692-0CB16AF0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E2E9-2CC1-454D-954E-D2D0A29D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0A2EB-861C-4C6E-AB7D-44BABFF0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9A71-9BC4-4CBA-9812-2CA60180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C2908-8907-4DE3-A93D-3DF0DDF7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6ABE8-489F-4357-901F-274DBFC4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567F-FDDA-465D-BDBA-CD132410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00B8-EA1A-4093-9B69-78C2FC87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5663-3A5D-46A3-BDCC-C01B1174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F49CC-0715-49AD-9195-A170B5FC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379A-7EE2-406C-9641-464EA01A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0ED-F9CD-481B-8DFE-D7225B0D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24B4-647B-46DF-A3DC-63A7CB6D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85963-0BF8-47A5-A2A5-FE6C08A9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FE722-1473-4416-A9D3-A0B5661D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FF28-AC37-48E3-8784-BFCD7EC3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2EAB-82E6-431D-9EAF-7CD256D4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5C8AF-8A58-4646-BA48-1C92433C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9279-E315-4D5D-8694-079A53E0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E09E7-1A96-4BE8-B5DE-6F80A8EA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6201-F45D-4B37-9360-56A27A7D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A13D4-CB8B-41BA-B947-797436FE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F41-C37F-4668-8764-539EF491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E94FB-B1B7-4277-9768-DABEA202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555A-4427-4FD5-9CFD-464D9705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191FA-C4AD-4C59-8829-1A329EEE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ED509-2283-4645-B26F-CA126DF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82897-FAF4-4EC5-88B0-35D2FEA2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055CB-8C97-46C0-8973-15A7C390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9D827-348C-4642-93BE-DD085F9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83E4B-D34D-4FDD-919A-885FD892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07351-F7AF-4262-B4A0-C12F795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7B259-A2CD-4774-A95B-4AC7D189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9B7-EAB1-42C2-ABC7-22EEC6F5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A4A64-0D37-4E47-86BC-84E762AE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9EB82-8FCA-4983-A8C8-36ED7A0F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22647-5664-499E-88C4-A9D5F8E6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4669D-4ED7-4343-A408-236A0719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D88D4-B014-445B-A673-8B191AD1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6EFB5-E1C2-48CC-B558-9D796506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DBB39-8EDB-4073-8FBA-60F34F24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49411-D800-45E5-B57B-139D84FF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30961-0207-4712-86AD-6927CE30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CA3A-89BA-4729-B2C3-CA9E2669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2AD-1621-4F7C-AF65-616533DE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2A686-2710-4AF3-8516-FC2C7199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2ABA-C217-4221-8D02-940D6133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9FCF8-B5E3-4198-B243-5D5FB3AE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25412-CAFC-4C87-A933-83F504EC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45590-7365-46A4-890F-B8612531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66263-820C-4292-8D8D-711AD4A1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07EBA-477D-4EA6-A2B0-C282D003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855A7-DC04-4BC5-9FDB-18277E34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52B1F-8483-4B5B-A8C4-B060FB6D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0FD6A-190A-4E55-A8D3-456F679D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C13-BA8E-4959-AF7F-AA1BC001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ACC58-A35D-407B-8E21-FA6B3A57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536E0-BDD8-44DD-9110-E28E9984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97941-AECE-486E-ABAC-D9F0A2C1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3CADE-95DC-4941-9247-ABE75666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B3A9C-3227-456F-B337-096FC24E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B6241-610C-4C31-84BD-E5BFFB06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7B53C-08B7-4A43-8AB1-477C44E7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6AB4C-2563-48A2-8510-024B15CD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AA0AA-B72F-47FA-A56B-DE59A071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4CE79-E573-47C5-88C4-874EE7C6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EDD-C617-4CDE-86A3-E99565E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847D5-8293-430C-9C95-E2578E98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D201E-1FAE-48E4-A260-7D2C7B4E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2D3C4-9976-4F73-9761-2F0E49FA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35A5C-8483-4CAD-B09E-47FF9F62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511C8-FCD8-4634-967A-4BA8DEF6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0A10D-3684-4395-903A-0BE9E9E5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3A7B7-CA5B-462F-9539-73A955FE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B4D94-82F9-4690-9F25-58AB15B4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C42B0-8406-4C3A-A468-413191DC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980B7-ABC6-4EFD-AE1A-8A97EE1E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48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48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48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48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48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48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48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8C43-442F-4000-986A-E5B167605BA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53D1-F57C-4D02-87D0-0222988BB3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C18E-1AA5-4E41-8043-B2617A5D274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9712-F96C-4EC4-A82D-0ED332DF88D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58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58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58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58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58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58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58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12CF-F40C-4009-8BFB-6506F010ECD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2519-69AF-4C81-BCED-63AC5D0166C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DC66-953B-47E0-BD60-A017BD8A1E7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664C-FBAC-427A-B227-C4832AE0C7C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8C33-BF3F-4E03-8824-0A15033A7EB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108E-14E1-4753-B88C-C4E05022AA1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F001-FDC3-4CE1-B27D-43DA369062B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85A5-A5AD-4B79-8427-B5424DE99E3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&#24433;&#23376;&#29983;&#23383;.exe" TargetMode="External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4145760" y="1773360"/>
            <a:ext cx="18266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我有一个好朋友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他常常跟着我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一会儿在前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一会儿在后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和他说说话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他就是不张口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4459680" y="430200"/>
            <a:ext cx="11865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谜语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5621760" y="5719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谜底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7206120" y="57405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7380360" y="44280"/>
            <a:ext cx="1749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900"/>
                            </p:stCondLst>
                            <p:childTnLst>
                              <p:par>
                                <p:cTn id="1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图片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24000" y="601560"/>
            <a:ext cx="8767440" cy="62596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6564960" y="87624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左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107520" y="548496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右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3932280" y="836640"/>
            <a:ext cx="2368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想一想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108960" y="3078000"/>
            <a:ext cx="2923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是怎么产生的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00"/>
                            </p:stCondLst>
                            <p:childTnLst>
                              <p:par>
                                <p:cTn id="18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1959120" y="29113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1978200" y="2565360"/>
            <a:ext cx="5473440" cy="375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什么情况下影子在前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什么情况下影子在后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什么情况下影子在左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什么情况下影子在右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51400" y="64296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说一说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5"/>
          <p:cNvSpPr/>
          <p:nvPr/>
        </p:nvSpPr>
        <p:spPr>
          <a:xfrm>
            <a:off x="4448880" y="3402000"/>
            <a:ext cx="77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为什么说影子是小黑狗、好朋友呢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4335480" y="7650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讨论交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4"/>
          <p:cNvSpPr/>
          <p:nvPr/>
        </p:nvSpPr>
        <p:spPr>
          <a:xfrm>
            <a:off x="3196800" y="1460520"/>
            <a:ext cx="4264920" cy="531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   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拍手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我们大家拍拍手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上面拍拍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下面拍拍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前面拍拍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后面拍拍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左边拍拍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右边拍拍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快快来，我们一起拍拍手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4459320" y="48276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课堂游戏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/>
          <p:cNvSpPr/>
          <p:nvPr/>
        </p:nvSpPr>
        <p:spPr>
          <a:xfrm>
            <a:off x="4356000" y="765000"/>
            <a:ext cx="1487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练 习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0" name="Group 10"/>
          <p:cNvGrpSpPr/>
          <p:nvPr/>
        </p:nvGrpSpPr>
        <p:grpSpPr>
          <a:xfrm>
            <a:off x="1979640" y="2708280"/>
            <a:ext cx="6192720" cy="3506760"/>
            <a:chOff x="1979640" y="2708280"/>
            <a:chExt cx="6192720" cy="3506760"/>
          </a:xfrm>
        </p:grpSpPr>
        <p:sp>
          <p:nvSpPr>
            <p:cNvPr id="561" name="Text Box 5"/>
            <p:cNvSpPr/>
            <p:nvPr/>
          </p:nvSpPr>
          <p:spPr>
            <a:xfrm>
              <a:off x="1979640" y="2708280"/>
              <a:ext cx="3313080" cy="3506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的前面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的后面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的左面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的右面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Line 6"/>
            <p:cNvSpPr/>
            <p:nvPr/>
          </p:nvSpPr>
          <p:spPr>
            <a:xfrm>
              <a:off x="4718160" y="3500280"/>
              <a:ext cx="3454200" cy="0"/>
            </a:xfrm>
            <a:prstGeom prst="line">
              <a:avLst/>
            </a:prstGeom>
            <a:ln w="28440">
              <a:solidFill>
                <a:srgbClr val="0656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Line 7"/>
            <p:cNvSpPr/>
            <p:nvPr/>
          </p:nvSpPr>
          <p:spPr>
            <a:xfrm>
              <a:off x="4716360" y="4365720"/>
              <a:ext cx="3454560" cy="0"/>
            </a:xfrm>
            <a:prstGeom prst="line">
              <a:avLst/>
            </a:prstGeom>
            <a:ln w="28440">
              <a:solidFill>
                <a:srgbClr val="0656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4" name="Line 8"/>
            <p:cNvSpPr/>
            <p:nvPr/>
          </p:nvSpPr>
          <p:spPr>
            <a:xfrm>
              <a:off x="4716360" y="5229360"/>
              <a:ext cx="3454560" cy="0"/>
            </a:xfrm>
            <a:prstGeom prst="line">
              <a:avLst/>
            </a:prstGeom>
            <a:ln w="28440">
              <a:solidFill>
                <a:srgbClr val="0656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Line 9"/>
            <p:cNvSpPr/>
            <p:nvPr/>
          </p:nvSpPr>
          <p:spPr>
            <a:xfrm>
              <a:off x="4716360" y="6093000"/>
              <a:ext cx="3454560" cy="0"/>
            </a:xfrm>
            <a:prstGeom prst="line">
              <a:avLst/>
            </a:prstGeom>
            <a:ln w="28440">
              <a:solidFill>
                <a:srgbClr val="0656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6" name="Text Box 11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AutoShape 33">
            <a:hlinkClick r:id="rId1"/>
          </p:cNvPr>
          <p:cNvSpPr/>
          <p:nvPr/>
        </p:nvSpPr>
        <p:spPr>
          <a:xfrm>
            <a:off x="4067280" y="5013360"/>
            <a:ext cx="1295280" cy="64764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788" y="1400"/>
                </a:lnTo>
                <a:lnTo>
                  <a:pt x="1400" y="140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788" y="20200"/>
                </a:lnTo>
                <a:lnTo>
                  <a:pt x="41788" y="140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8" y="2020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8" h="21600">
                <a:moveTo>
                  <a:pt x="14588" y="7301"/>
                </a:moveTo>
                <a:lnTo>
                  <a:pt x="15501" y="7301"/>
                </a:lnTo>
                <a:lnTo>
                  <a:pt x="15884" y="7667"/>
                </a:lnTo>
                <a:lnTo>
                  <a:pt x="25093" y="7667"/>
                </a:lnTo>
                <a:lnTo>
                  <a:pt x="25650" y="8224"/>
                </a:lnTo>
                <a:lnTo>
                  <a:pt x="25650" y="8772"/>
                </a:lnTo>
                <a:lnTo>
                  <a:pt x="27495" y="8772"/>
                </a:lnTo>
                <a:lnTo>
                  <a:pt x="27861" y="8224"/>
                </a:lnTo>
                <a:lnTo>
                  <a:pt x="28600" y="8224"/>
                </a:lnTo>
                <a:lnTo>
                  <a:pt x="28600" y="13376"/>
                </a:lnTo>
                <a:lnTo>
                  <a:pt x="27861" y="13376"/>
                </a:lnTo>
                <a:lnTo>
                  <a:pt x="27495" y="12828"/>
                </a:lnTo>
                <a:lnTo>
                  <a:pt x="25650" y="12828"/>
                </a:lnTo>
                <a:lnTo>
                  <a:pt x="25650" y="14107"/>
                </a:lnTo>
                <a:lnTo>
                  <a:pt x="16067" y="14107"/>
                </a:lnTo>
                <a:lnTo>
                  <a:pt x="16067" y="9877"/>
                </a:lnTo>
                <a:lnTo>
                  <a:pt x="15884" y="9877"/>
                </a:lnTo>
                <a:lnTo>
                  <a:pt x="15501" y="10243"/>
                </a:lnTo>
                <a:lnTo>
                  <a:pt x="14588" y="10243"/>
                </a:lnTo>
                <a:close/>
              </a:path>
            </a:pathLst>
          </a:custGeom>
          <a:solidFill>
            <a:srgbClr val="ccccff">
              <a:alpha val="46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4254480" y="595008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87229"/>
                </a:solidFill>
                <a:uFillTx/>
                <a:latin typeface="Arial"/>
                <a:ea typeface="楷体_GB2312"/>
              </a:rPr>
              <a:t>动画演示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Text Box 55"/>
          <p:cNvSpPr/>
          <p:nvPr/>
        </p:nvSpPr>
        <p:spPr>
          <a:xfrm>
            <a:off x="4273560" y="6397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会写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0" name="Group 67"/>
          <p:cNvGrpSpPr/>
          <p:nvPr/>
        </p:nvGrpSpPr>
        <p:grpSpPr>
          <a:xfrm>
            <a:off x="3058920" y="2708280"/>
            <a:ext cx="3673800" cy="1295280"/>
            <a:chOff x="3058920" y="2708280"/>
            <a:chExt cx="3673800" cy="1295280"/>
          </a:xfrm>
        </p:grpSpPr>
        <p:grpSp>
          <p:nvGrpSpPr>
            <p:cNvPr id="571" name="Group 36"/>
            <p:cNvGrpSpPr/>
            <p:nvPr/>
          </p:nvGrpSpPr>
          <p:grpSpPr>
            <a:xfrm>
              <a:off x="4284720" y="2779560"/>
              <a:ext cx="1224000" cy="1224000"/>
              <a:chOff x="4284720" y="2779560"/>
              <a:chExt cx="1224000" cy="1224000"/>
            </a:xfrm>
          </p:grpSpPr>
          <p:sp>
            <p:nvSpPr>
              <p:cNvPr id="572" name="Rectangle 37"/>
              <p:cNvSpPr/>
              <p:nvPr/>
            </p:nvSpPr>
            <p:spPr>
              <a:xfrm>
                <a:off x="4284720" y="277956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3" name="Line 38"/>
              <p:cNvSpPr/>
              <p:nvPr/>
            </p:nvSpPr>
            <p:spPr>
              <a:xfrm flipH="1">
                <a:off x="4284720" y="339156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4" name="Line 39"/>
              <p:cNvSpPr/>
              <p:nvPr/>
            </p:nvSpPr>
            <p:spPr>
              <a:xfrm>
                <a:off x="4897080" y="280980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75" name="Group 40"/>
            <p:cNvGrpSpPr/>
            <p:nvPr/>
          </p:nvGrpSpPr>
          <p:grpSpPr>
            <a:xfrm>
              <a:off x="5508720" y="2779560"/>
              <a:ext cx="1224000" cy="1224000"/>
              <a:chOff x="5508720" y="2779560"/>
              <a:chExt cx="1224000" cy="1224000"/>
            </a:xfrm>
          </p:grpSpPr>
          <p:sp>
            <p:nvSpPr>
              <p:cNvPr id="576" name="Rectangle 41"/>
              <p:cNvSpPr/>
              <p:nvPr/>
            </p:nvSpPr>
            <p:spPr>
              <a:xfrm>
                <a:off x="5508720" y="277956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7" name="Line 42"/>
              <p:cNvSpPr/>
              <p:nvPr/>
            </p:nvSpPr>
            <p:spPr>
              <a:xfrm flipH="1">
                <a:off x="5508720" y="339156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8" name="Line 43"/>
              <p:cNvSpPr/>
              <p:nvPr/>
            </p:nvSpPr>
            <p:spPr>
              <a:xfrm>
                <a:off x="6121080" y="280980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79" name="Group 60"/>
            <p:cNvGrpSpPr/>
            <p:nvPr/>
          </p:nvGrpSpPr>
          <p:grpSpPr>
            <a:xfrm>
              <a:off x="3058920" y="2779560"/>
              <a:ext cx="1224000" cy="1224000"/>
              <a:chOff x="3058920" y="2779560"/>
              <a:chExt cx="1224000" cy="1224000"/>
            </a:xfrm>
          </p:grpSpPr>
          <p:sp>
            <p:nvSpPr>
              <p:cNvPr id="580" name="Rectangle 61"/>
              <p:cNvSpPr/>
              <p:nvPr/>
            </p:nvSpPr>
            <p:spPr>
              <a:xfrm>
                <a:off x="3059280" y="2779560"/>
                <a:ext cx="122364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1" name="Line 62"/>
              <p:cNvSpPr/>
              <p:nvPr/>
            </p:nvSpPr>
            <p:spPr>
              <a:xfrm flipH="1">
                <a:off x="3058920" y="3391560"/>
                <a:ext cx="12236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2" name="Line 63"/>
              <p:cNvSpPr/>
              <p:nvPr/>
            </p:nvSpPr>
            <p:spPr>
              <a:xfrm>
                <a:off x="3671280" y="280980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83" name="Text Box 54"/>
            <p:cNvSpPr/>
            <p:nvPr/>
          </p:nvSpPr>
          <p:spPr>
            <a:xfrm>
              <a:off x="3059280" y="2708280"/>
              <a:ext cx="367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7200" spc="-1" strike="noStrike" u="sng">
                  <a:solidFill>
                    <a:srgbClr val="ff3300"/>
                  </a:solidFill>
                  <a:uFillTx/>
                  <a:latin typeface="Arial"/>
                  <a:ea typeface="楷体_GB2312"/>
                </a:rPr>
                <a:t>飞马鸟</a:t>
              </a:r>
              <a:endParaRPr b="0" i="1" lang="en-US" sz="7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4" name="Text Box 68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4"/>
          <p:cNvSpPr/>
          <p:nvPr/>
        </p:nvSpPr>
        <p:spPr>
          <a:xfrm>
            <a:off x="2875320" y="3673440"/>
            <a:ext cx="912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马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5324760" y="3673440"/>
            <a:ext cx="912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鸟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3148920" y="206064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仔细观察，这两个字有什么区别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4353840" y="100008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读一读组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188080" y="2689200"/>
            <a:ext cx="5969520" cy="24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看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马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左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着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鸟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右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"/>
                            </p:stCondLst>
                            <p:childTnLst>
                              <p:par>
                                <p:cTn id="28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4"/>
          <p:cNvSpPr/>
          <p:nvPr/>
        </p:nvSpPr>
        <p:spPr>
          <a:xfrm>
            <a:off x="4191120" y="836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拓展练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1932120" y="2781360"/>
            <a:ext cx="6527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Times New Roman"/>
                <a:ea typeface="宋体"/>
              </a:rPr>
              <a:t>　　</a:t>
            </a: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走</a:t>
            </a: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!  </a:t>
            </a: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小朋友们，我们一起到操场去找找自己的影子吧！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图片1"/>
          <p:cNvPicPr/>
          <p:nvPr/>
        </p:nvPicPr>
        <p:blipFill>
          <a:blip r:embed="rId1"/>
          <a:srcRect l="4188" t="430" r="0" b="0"/>
          <a:stretch/>
        </p:blipFill>
        <p:spPr>
          <a:xfrm>
            <a:off x="324000" y="569880"/>
            <a:ext cx="8820000" cy="6288120"/>
          </a:xfrm>
          <a:prstGeom prst="rect">
            <a:avLst/>
          </a:prstGeom>
          <a:ln w="0">
            <a:noFill/>
          </a:ln>
        </p:spPr>
      </p:pic>
      <p:sp>
        <p:nvSpPr>
          <p:cNvPr id="512" name="Freeform 7"/>
          <p:cNvSpPr/>
          <p:nvPr/>
        </p:nvSpPr>
        <p:spPr>
          <a:xfrm>
            <a:off x="1606680" y="4930920"/>
            <a:ext cx="3841560" cy="1919160"/>
          </a:xfrm>
          <a:custGeom>
            <a:avLst/>
            <a:gdLst/>
            <a:ahLst/>
            <a:rect l="l" t="t" r="r" b="b"/>
            <a:pathLst>
              <a:path w="2420" h="1209">
                <a:moveTo>
                  <a:pt x="144" y="778"/>
                </a:moveTo>
                <a:cubicBezTo>
                  <a:pt x="212" y="740"/>
                  <a:pt x="334" y="710"/>
                  <a:pt x="417" y="687"/>
                </a:cubicBezTo>
                <a:cubicBezTo>
                  <a:pt x="500" y="664"/>
                  <a:pt x="605" y="672"/>
                  <a:pt x="643" y="642"/>
                </a:cubicBezTo>
                <a:cubicBezTo>
                  <a:pt x="681" y="612"/>
                  <a:pt x="635" y="536"/>
                  <a:pt x="643" y="506"/>
                </a:cubicBezTo>
                <a:cubicBezTo>
                  <a:pt x="651" y="476"/>
                  <a:pt x="613" y="468"/>
                  <a:pt x="689" y="460"/>
                </a:cubicBezTo>
                <a:cubicBezTo>
                  <a:pt x="765" y="452"/>
                  <a:pt x="1022" y="467"/>
                  <a:pt x="1097" y="460"/>
                </a:cubicBezTo>
                <a:cubicBezTo>
                  <a:pt x="1172" y="453"/>
                  <a:pt x="1112" y="438"/>
                  <a:pt x="1142" y="415"/>
                </a:cubicBezTo>
                <a:cubicBezTo>
                  <a:pt x="1172" y="392"/>
                  <a:pt x="1195" y="362"/>
                  <a:pt x="1278" y="324"/>
                </a:cubicBezTo>
                <a:cubicBezTo>
                  <a:pt x="1361" y="286"/>
                  <a:pt x="1513" y="233"/>
                  <a:pt x="1641" y="188"/>
                </a:cubicBezTo>
                <a:cubicBezTo>
                  <a:pt x="1769" y="143"/>
                  <a:pt x="1936" y="82"/>
                  <a:pt x="2049" y="52"/>
                </a:cubicBezTo>
                <a:cubicBezTo>
                  <a:pt x="2162" y="22"/>
                  <a:pt x="2269" y="0"/>
                  <a:pt x="2322" y="7"/>
                </a:cubicBezTo>
                <a:cubicBezTo>
                  <a:pt x="2375" y="14"/>
                  <a:pt x="2420" y="44"/>
                  <a:pt x="2367" y="97"/>
                </a:cubicBezTo>
                <a:cubicBezTo>
                  <a:pt x="2314" y="150"/>
                  <a:pt x="2095" y="264"/>
                  <a:pt x="2004" y="324"/>
                </a:cubicBezTo>
                <a:cubicBezTo>
                  <a:pt x="1913" y="384"/>
                  <a:pt x="1853" y="422"/>
                  <a:pt x="1823" y="460"/>
                </a:cubicBezTo>
                <a:cubicBezTo>
                  <a:pt x="1793" y="498"/>
                  <a:pt x="1778" y="551"/>
                  <a:pt x="1823" y="551"/>
                </a:cubicBezTo>
                <a:cubicBezTo>
                  <a:pt x="1868" y="551"/>
                  <a:pt x="2042" y="430"/>
                  <a:pt x="2095" y="460"/>
                </a:cubicBezTo>
                <a:cubicBezTo>
                  <a:pt x="2148" y="490"/>
                  <a:pt x="2155" y="679"/>
                  <a:pt x="2140" y="732"/>
                </a:cubicBezTo>
                <a:cubicBezTo>
                  <a:pt x="2125" y="785"/>
                  <a:pt x="2034" y="763"/>
                  <a:pt x="2004" y="778"/>
                </a:cubicBezTo>
                <a:cubicBezTo>
                  <a:pt x="1974" y="793"/>
                  <a:pt x="1982" y="823"/>
                  <a:pt x="1959" y="823"/>
                </a:cubicBezTo>
                <a:cubicBezTo>
                  <a:pt x="1936" y="823"/>
                  <a:pt x="1936" y="763"/>
                  <a:pt x="1868" y="778"/>
                </a:cubicBezTo>
                <a:cubicBezTo>
                  <a:pt x="1800" y="793"/>
                  <a:pt x="1671" y="899"/>
                  <a:pt x="1550" y="914"/>
                </a:cubicBezTo>
                <a:cubicBezTo>
                  <a:pt x="1429" y="929"/>
                  <a:pt x="1217" y="845"/>
                  <a:pt x="1142" y="868"/>
                </a:cubicBezTo>
                <a:cubicBezTo>
                  <a:pt x="1067" y="891"/>
                  <a:pt x="1157" y="997"/>
                  <a:pt x="1097" y="1050"/>
                </a:cubicBezTo>
                <a:cubicBezTo>
                  <a:pt x="1037" y="1103"/>
                  <a:pt x="907" y="1163"/>
                  <a:pt x="779" y="1186"/>
                </a:cubicBezTo>
                <a:cubicBezTo>
                  <a:pt x="651" y="1209"/>
                  <a:pt x="439" y="1193"/>
                  <a:pt x="326" y="1186"/>
                </a:cubicBezTo>
                <a:cubicBezTo>
                  <a:pt x="213" y="1179"/>
                  <a:pt x="152" y="1186"/>
                  <a:pt x="99" y="1141"/>
                </a:cubicBezTo>
                <a:cubicBezTo>
                  <a:pt x="46" y="1096"/>
                  <a:pt x="0" y="974"/>
                  <a:pt x="8" y="914"/>
                </a:cubicBezTo>
                <a:cubicBezTo>
                  <a:pt x="16" y="854"/>
                  <a:pt x="76" y="816"/>
                  <a:pt x="144" y="77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5796000" y="3860640"/>
            <a:ext cx="3024000" cy="1368720"/>
            <a:chOff x="5796000" y="3860640"/>
            <a:chExt cx="3024000" cy="1368720"/>
          </a:xfrm>
        </p:grpSpPr>
        <p:sp>
          <p:nvSpPr>
            <p:cNvPr id="514" name="AutoShape 6"/>
            <p:cNvSpPr/>
            <p:nvPr/>
          </p:nvSpPr>
          <p:spPr>
            <a:xfrm>
              <a:off x="5796000" y="3860640"/>
              <a:ext cx="3024000" cy="1368720"/>
            </a:xfrm>
            <a:prstGeom prst="wedgeRectCallout">
              <a:avLst>
                <a:gd name="adj1" fmla="val -122074"/>
                <a:gd name="adj2" fmla="val 981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5" name="Text Box 8"/>
            <p:cNvSpPr/>
            <p:nvPr/>
          </p:nvSpPr>
          <p:spPr>
            <a:xfrm>
              <a:off x="5867280" y="3967200"/>
              <a:ext cx="29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       </a:t>
              </a:r>
              <a:r>
                <a:rPr b="0" i="1" lang="zh-CN" sz="36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知道这是什么吗？</a:t>
              </a:r>
              <a:endParaRPr b="0" i="1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6" name="Text Box 10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3950280" y="2433600"/>
            <a:ext cx="1963800" cy="18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7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11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4"/>
          <p:cNvSpPr/>
          <p:nvPr/>
        </p:nvSpPr>
        <p:spPr>
          <a:xfrm>
            <a:off x="2694240" y="3016080"/>
            <a:ext cx="444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你们知道有关影子的哪些知识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3"/>
          <p:cNvSpPr/>
          <p:nvPr/>
        </p:nvSpPr>
        <p:spPr>
          <a:xfrm>
            <a:off x="4294080" y="569880"/>
            <a:ext cx="851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影</a:t>
            </a: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子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Text Box 23"/>
          <p:cNvSpPr/>
          <p:nvPr/>
        </p:nvSpPr>
        <p:spPr>
          <a:xfrm>
            <a:off x="3059280" y="1628640"/>
            <a:ext cx="3960720" cy="51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在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前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在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后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常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常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跟着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我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就像一条小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黑狗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在左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在右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常常陪着我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它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是我的好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朋友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Text Box 24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4"/>
          <p:cNvSpPr/>
          <p:nvPr/>
        </p:nvSpPr>
        <p:spPr>
          <a:xfrm>
            <a:off x="3975120" y="9079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会认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1692360" y="2421000"/>
            <a:ext cx="7200720" cy="392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y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ǐ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g qi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  hòu 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ch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g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g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ē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 zh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o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影  前  后  常  跟  着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h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ē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i    g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ǒ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u   t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ā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péng y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ǒ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u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黑  狗  它  朋  友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9" descr="11_200532322261679851"/>
          <p:cNvPicPr/>
          <p:nvPr/>
        </p:nvPicPr>
        <p:blipFill>
          <a:blip r:embed="rId1"/>
          <a:stretch/>
        </p:blipFill>
        <p:spPr>
          <a:xfrm>
            <a:off x="2735280" y="249228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0"/>
          <p:cNvSpPr/>
          <p:nvPr/>
        </p:nvSpPr>
        <p:spPr>
          <a:xfrm>
            <a:off x="4487040" y="587700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4460040" y="191628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后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6620760" y="393228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左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2444040" y="386064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右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4056120" y="6271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学认方向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4"/>
          <p:cNvSpPr/>
          <p:nvPr/>
        </p:nvSpPr>
        <p:spPr>
          <a:xfrm>
            <a:off x="1835280" y="2708280"/>
            <a:ext cx="662436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看图，说说太阳和影子各在小朋友的哪个方向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6" descr="图片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50920" y="476280"/>
            <a:ext cx="8867520" cy="63882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8"/>
          <p:cNvSpPr/>
          <p:nvPr/>
        </p:nvSpPr>
        <p:spPr>
          <a:xfrm>
            <a:off x="2967120" y="59356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967120" y="58644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2675520" y="526896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后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6636600" y="123660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前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万润仪器贸易公司</cp:lastModifiedBy>
  <dcterms:modified xsi:type="dcterms:W3CDTF">2020-08-24T01:55:3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